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push.wav" ContentType="audio/x-wav"/>
  <Override PartName="/ppt/media/image30.gif" ContentType="image/gif"/>
  <Override PartName="/ppt/media/image20.png" ContentType="image/png"/>
  <Override PartName="/ppt/media/image21.png" ContentType="image/png"/>
  <Override PartName="/ppt/media/image19.png" ContentType="image/png"/>
  <Override PartName="/ppt/media/explode.wav" ContentType="audio/x-wav"/>
  <Override PartName="/ppt/media/image18.jpeg" ContentType="image/jpeg"/>
  <Override PartName="/ppt/media/image15.png" ContentType="image/png"/>
  <Override PartName="/ppt/media/chimes.wav" ContentType="audio/x-wav"/>
  <Override PartName="/ppt/media/image36.gif" ContentType="image/gif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27.jpeg" ContentType="image/jpeg"/>
  <Override PartName="/ppt/media/image10.png" ContentType="image/png"/>
  <Override PartName="/ppt/media/drumroll.wav" ContentType="audio/x-wav"/>
  <Override PartName="/ppt/media/applause.wav" ContentType="audio/x-wav"/>
  <Override PartName="/ppt/media/image5.png" ContentType="image/png"/>
  <Override PartName="/ppt/media/image29.gif" ContentType="image/gif"/>
  <Override PartName="/ppt/media/image22.jpeg" ContentType="image/jpeg"/>
  <Override PartName="/ppt/media/image9.png" ContentType="image/png"/>
  <Override PartName="/ppt/media/image31.jpeg" ContentType="image/jpeg"/>
  <Override PartName="/ppt/media/whoosh.wav" ContentType="audio/x-wav"/>
  <Override PartName="/ppt/media/image28.jpeg" ContentType="image/jpeg"/>
  <Override PartName="/ppt/media/image38.wmf" ContentType="image/x-wmf"/>
  <Override PartName="/ppt/media/image35.gif" ContentType="image/gif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366-1DA4-4D90-95E3-F7989EEB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AD6-9F7B-47D4-A471-A48C96E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8C2B6-D0E6-4B2C-AEA3-106B5074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69D6F-D07F-4D5D-9D00-4B3AF775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9B195-9686-4E8E-ADBE-0A4A4A6C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ED28E-34C2-4D10-AED2-76BB1F2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6EC1A-2781-4AE5-B244-F8C9F0A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D5E16-E4AC-4C17-9410-F9C1E3A1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07A6D-B270-45B3-9D5E-417F111A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A1D8D-07C0-462E-86B0-8A219FAD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E8D35-771C-4C5E-B666-77C27D10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6F0A5-0D1C-483E-A0F7-0F3A2D82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6D5-529F-409B-AB2F-A5B22439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FE603-7384-412F-80B0-8FA8717E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17402-6474-4030-895E-50BD072A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9613B-2404-443B-90DB-EBC2A562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59B4E-A1A7-43A4-9D64-366B6DEF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12B0A-476C-44C8-AAC7-AD76FB0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0F076-5874-41CA-B801-B17BB40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9F68D-6BC8-4E79-8CC3-C7807B4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D3D50-1D76-4054-900E-FA697D88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14794-7BB9-4638-A661-DFA4FB3D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9A6B3-61FD-44DE-A3FC-00148150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06D-9172-4CC5-BCDB-AD9557A5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01757-F551-4089-A279-5D3A1EEA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C4A71-D925-4CC0-9418-A98E9E85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627DC-B925-49B0-85D8-FC430068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4EBC9-E93C-4FB3-83CB-5BB78B00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E5314-1CA0-40B0-8FF1-CBC6D0E6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A87BD-7DE1-44D4-A875-60938E6A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F28DE-D3FC-4C05-B85A-E89EBE6F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12F6A-91AE-4E31-A401-6468AC2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580F0-CEAA-497E-83E5-F1F35B6B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D077C-E0FB-43B0-A3F1-AF2261AA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1A2E-CFB8-4571-8958-A98DD4AC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A5B0F-10EE-45FE-9744-C523D851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FB48E-4C02-4E49-9190-B3A33066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BFED3-32C8-4F35-9F54-54C8EA10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F66B5-D871-461B-A599-5C8E6E4F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BBE29-A677-436D-8521-B63D0BEB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62F16-C524-4173-8055-5A3FA2DA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52763-5E34-4E17-9CFF-8A6C8598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43B31-A486-42DE-870E-D0DB11CA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ECC5E-0A52-4F55-AC44-0B3D81EE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C8170-222C-4BA3-AD50-EDC468B7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11C5-220B-4FC9-B650-6236D2EC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A6A1F-3011-4910-811E-FD7CB56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E3EB7-63CF-46B3-B6D3-D686E13B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7AEA2-7129-4991-9E5F-476CF18B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358D7-5AE3-497C-A572-8F06A9F7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1A8CB-2C38-45A3-8FEE-6D8A8661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DC11-08B2-459A-AB8E-641A7800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35FE-2082-448D-855E-531BD865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9574-7AD6-48A0-B571-0BA40BA1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3200-9565-4DDE-AEA5-663434F2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6888-832F-4F74-B179-3E79A4B1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0CB-FE61-464C-922C-7A22204F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6E36-9150-4BB8-87C9-7AB049D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112F-8DE3-419F-9FF8-9041EBF1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9268-3EA7-4B58-B6A7-8960CF9E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65CC-9AFA-431D-B718-73890E90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CA9E-6264-452B-9F42-FD7EB354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1D60-BEB2-489D-B29C-39297130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B84C-DBE9-4231-BD9E-1830C240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8A07-569F-4155-8705-06197E83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9FD9-48D7-4F3F-B900-C1F99BE5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9181-87F5-4505-A500-2238FFC9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F34-985C-4229-A38E-2F88423D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82D3-4F49-44AA-9F0C-92C904EB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227E-4E9A-4655-B3AE-B3C9DBD7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8276-2F5A-4030-BCC9-B298224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ABDC-CE7F-4E00-96F6-75BEF668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8DD4-00BE-466A-8655-2A41AD77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8A67-47B9-4301-876B-163F59A8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A833-3B0C-4974-ACE7-9557EED4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0597-2F7D-4867-9FDB-CD0B9658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FDD6-9ECC-4407-86B8-74262801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612E-28DD-4242-B3CE-537D69D1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E49-0CFA-4108-8AF3-2448E93D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BF6CA-05D1-4A78-B5F7-6E756115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C98CC-E8CA-496A-A321-0C8E43D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C9059-05BB-49D2-A1E6-591CEF9D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7B10-6CAB-4C4A-9CEE-CAE9CB2D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FBDF-914C-42AB-B822-9A2E8B2A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4737-97C0-4EFC-B158-30C70F80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89C5-2D4F-441F-84E4-BD208156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A04F-DF2C-478A-ACF4-816ACAA0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09C4A-4E68-437A-B224-CB8A0E96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CC46-DD2D-4BB3-9EA8-6F9A9A79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B2A-CF30-4438-82EB-AFE02817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B262D-BFF5-4F1F-AD56-4D1F220A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B2C0E-02B1-4983-847E-8BFCED1C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81779-B636-48FA-AB48-9B3CC6D1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F2FAE-3C7B-4D20-A061-814AC912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D863-744C-4150-9B76-B2DA99C9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75D9-4D36-46C5-B88D-B709C3A7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132A-76AE-4DFB-AE58-7C8DEA5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44992-450A-4E70-91DF-B4479CB9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4AF12-917F-4B6C-8717-471DDB52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BBC4-6BEE-4180-A16C-3EE86CC2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37A-068D-4361-96F9-6160A3DE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63704-FB0A-499B-8B4F-D728AF25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1D05D-A75E-4F5F-B8B6-08B7061B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8C02E-4178-440F-8B7C-C3DFEB4B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65325-A04B-410E-A9F2-75CFCE67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1F21E-B175-4303-9B98-41EE6978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85F01-132C-412C-AF7E-7FBC807B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BF99-0C9D-464C-90DE-DAF62007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07F2F-8030-4C53-8D33-4EFC383E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9E711-5AD3-41CF-BBCB-3E113043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7CB5-F245-45DA-8E4C-DF229AE7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5D9-064A-497E-AFFA-7D4DD1C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F968-4F1E-419A-ACE8-0FD38494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A23D8-089A-436D-B118-FE960381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B4E5-D97C-43EF-A206-4034FEFB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9E066-729F-4E96-B4FF-8D56F97D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0CB4F-86AE-4573-AC26-34E967CB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94B74-AB65-4FE2-8EBD-28ADED2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0ED4-D477-475F-8576-774171CE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FE6DC-A14A-40D6-B762-DB54DCE5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FC6E-B23A-4383-B5BA-90234424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DDCF7-ADAE-4E72-8E4C-12F38C5B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37B-027B-4BD0-8B93-BCAD08B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D3EA-72B5-4D86-9BCF-1FD405D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66F48-238F-40CD-A084-6A3D1AD5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EF60-09CB-4DC2-927E-CFF2CAE0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2A6CA-CB2C-4CA6-8658-261B5612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6DD91-917C-4E1B-BB97-AA87B35C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0DE62-3EAB-4C45-B00A-917539B8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650B1-93A2-4E63-B321-7BBCF11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75F4D-AF71-4047-B08A-74754882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95E20-FE67-4F1E-B7AD-4BF73EA3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CBE1B-E5E7-4E33-AF6D-480554A2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B56-2D09-4F88-9DB0-7134D585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4EA02-019F-49EE-ABCA-D7F78FDC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C129F-B8EC-47C3-9F53-A0256F0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4E539-28BB-481F-967E-F398B304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93245-3E46-4B18-8776-971E8197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7E0FC-25C1-49B4-8B76-FFCB0E69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88624-3019-451C-BE9D-EF37C31B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7BD90-4013-4CAE-BD6F-D904444F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EBD6E-7509-4932-99F5-904BDBE9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32A5D-2E58-415A-8859-6B8E1981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CE257-9E57-462D-B4FA-A26C44CA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BCD8-8F63-47E0-B244-7D6AFC2D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8723160" y="0"/>
            <a:ext cx="431640" cy="6845040"/>
            <a:chOff x="8723160" y="0"/>
            <a:chExt cx="431640" cy="6845040"/>
          </a:xfrm>
        </p:grpSpPr>
        <p:sp>
          <p:nvSpPr>
            <p:cNvPr id="418" name=""/>
            <p:cNvSpPr/>
            <p:nvPr/>
          </p:nvSpPr>
          <p:spPr>
            <a:xfrm>
              <a:off x="8723160" y="2139840"/>
              <a:ext cx="431640" cy="4705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3160" y="0"/>
              <a:ext cx="431640" cy="4030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421" name="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428" name="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431" name="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49080" y="2439720"/>
            <a:ext cx="71485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8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9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30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8D53-EE32-4E72-A6AB-0ACF9FD66F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C190-0C03-45F3-9106-DB3A3BFCFB32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19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3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3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3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159D-007C-492C-9068-1A60EEE3355F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536E-8FE9-4ECD-B0EB-60A7D945ED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83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45BF-F103-4785-AA91-5B12153D0B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129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5851-3E62-45A7-9DC0-A4A2549EC4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785880" cy="6858000"/>
            <a:chOff x="0" y="0"/>
            <a:chExt cx="785880" cy="68580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785880" cy="6858000"/>
              <a:chOff x="0" y="0"/>
              <a:chExt cx="785880" cy="685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74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520" y="0"/>
                <a:ext cx="252360" cy="6858000"/>
              </a:xfrm>
              <a:prstGeom prst="rect">
                <a:avLst/>
              </a:prstGeom>
              <a:solidFill>
                <a:srgbClr val="085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0" y="6324480"/>
              <a:ext cx="762120" cy="25236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6324480"/>
              <a:ext cx="252360" cy="252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5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555720" y="6244920"/>
            <a:ext cx="260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686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1D6F-5AEE-4063-9864-88BE61E7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1379520"/>
            <a:ext cx="9144000" cy="449280"/>
            <a:chOff x="0" y="1379520"/>
            <a:chExt cx="9144000" cy="449280"/>
          </a:xfrm>
        </p:grpSpPr>
        <p:sp>
          <p:nvSpPr>
            <p:cNvPr id="230" name=""/>
            <p:cNvSpPr/>
            <p:nvPr/>
          </p:nvSpPr>
          <p:spPr>
            <a:xfrm>
              <a:off x="0" y="137952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1484280"/>
              <a:ext cx="9144000" cy="25236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175896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3840" y="0"/>
            <a:ext cx="392040" cy="6858000"/>
            <a:chOff x="393840" y="0"/>
            <a:chExt cx="392040" cy="6858000"/>
          </a:xfrm>
        </p:grpSpPr>
        <p:sp>
          <p:nvSpPr>
            <p:cNvPr id="234" name=""/>
            <p:cNvSpPr/>
            <p:nvPr/>
          </p:nvSpPr>
          <p:spPr>
            <a:xfrm>
              <a:off x="533520" y="0"/>
              <a:ext cx="252360" cy="685800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3840" y="0"/>
              <a:ext cx="69840" cy="685800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33520" y="1479600"/>
            <a:ext cx="252360" cy="25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3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C567-35B8-4943-8574-954E3E20C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5030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549360"/>
            <a:ext cx="8747280" cy="9745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4920" y="60660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B993-CEEC-4109-B322-5725683FA1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205000"/>
            <a:ext cx="8456760" cy="12240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505320"/>
            <a:ext cx="503856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400" y="2219040"/>
            <a:ext cx="8004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A525-3AD3-4927-9824-320F4DAFE4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367" name="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370" name="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62BE-7AC5-4A6E-B869-96E3052071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ush.wav" TargetMode="External"/><Relationship Id="rId2" Type="http://schemas.microsoft.com/office/2007/relationships/media" Target="file:///tmp/home/.config/libreoffice/4/user/gallery/push.wav" TargetMode="External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beijing" descr=""/>
          <p:cNvPicPr/>
          <p:nvPr/>
        </p:nvPicPr>
        <p:blipFill>
          <a:blip r:embed="rId1"/>
          <a:stretch/>
        </p:blipFill>
        <p:spPr>
          <a:xfrm>
            <a:off x="-166680" y="-84240"/>
            <a:ext cx="9348840" cy="69422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-93600" y="115920"/>
            <a:ext cx="44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Arial"/>
              </a:rPr>
              <a:t>苏教版八年级下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1484280"/>
            <a:ext cx="7202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565" name=""/>
          <p:cNvSpPr/>
          <p:nvPr/>
        </p:nvSpPr>
        <p:spPr>
          <a:xfrm>
            <a:off x="1490760" y="5877000"/>
            <a:ext cx="387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淅川县寺湾镇中     王栋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8e09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8" name=""/>
          <p:cNvGrpSpPr/>
          <p:nvPr/>
        </p:nvGrpSpPr>
        <p:grpSpPr>
          <a:xfrm>
            <a:off x="5866920" y="0"/>
            <a:ext cx="1143360" cy="1066680"/>
            <a:chOff x="5866920" y="0"/>
            <a:chExt cx="1143360" cy="1066680"/>
          </a:xfrm>
        </p:grpSpPr>
        <p:sp>
          <p:nvSpPr>
            <p:cNvPr id="629" name=""/>
            <p:cNvSpPr/>
            <p:nvPr/>
          </p:nvSpPr>
          <p:spPr>
            <a:xfrm>
              <a:off x="6172200" y="0"/>
              <a:ext cx="685800" cy="609480"/>
            </a:xfrm>
            <a:prstGeom prst="flowChartConnector">
              <a:avLst/>
            </a:prstGeom>
            <a:gradFill rotWithShape="0">
              <a:gsLst>
                <a:gs pos="0">
                  <a:srgbClr val="fde953"/>
                </a:gs>
                <a:gs pos="100000">
                  <a:srgbClr val="fdfbd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943600" y="533520"/>
              <a:ext cx="304560" cy="22860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6760" y="609480"/>
              <a:ext cx="76320" cy="45720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5360" y="457200"/>
              <a:ext cx="304920" cy="30492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5866920" y="228600"/>
              <a:ext cx="304920" cy="7632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324480" y="4191120"/>
            <a:ext cx="990720" cy="838080"/>
            <a:chOff x="6324480" y="4191120"/>
            <a:chExt cx="990720" cy="838080"/>
          </a:xfrm>
        </p:grpSpPr>
        <p:sp>
          <p:nvSpPr>
            <p:cNvPr id="635" name=""/>
            <p:cNvSpPr/>
            <p:nvPr/>
          </p:nvSpPr>
          <p:spPr>
            <a:xfrm>
              <a:off x="6324480" y="4191120"/>
              <a:ext cx="990720" cy="838080"/>
            </a:xfrm>
            <a:prstGeom prst="wedgeEllipseCallout">
              <a:avLst>
                <a:gd name="adj1" fmla="val -36055"/>
                <a:gd name="adj2" fmla="val 97347"/>
              </a:avLst>
            </a:prstGeom>
            <a:gradFill rotWithShape="0">
              <a:gsLst>
                <a:gs pos="0">
                  <a:srgbClr val="eed07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419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好热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 rot="5400000">
            <a:off x="-611640" y="3273480"/>
            <a:ext cx="24418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烈日当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1143000" cy="1393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718920" cy="1218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38080" y="457200"/>
            <a:ext cx="8001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一儿曰：“日初出            ，及其日中如        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1143000"/>
            <a:ext cx="22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沧沧凉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1600200"/>
            <a:ext cx="11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探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ubOvalCallout"/>
          <p:cNvSpPr/>
          <p:nvPr/>
        </p:nvSpPr>
        <p:spPr>
          <a:xfrm>
            <a:off x="4648320" y="-182520"/>
            <a:ext cx="3295440" cy="1554120"/>
          </a:xfrm>
          <a:custGeom>
            <a:avLst/>
            <a:gdLst>
              <a:gd name="textAreaLeft" fmla="*/ 482400 w 3295440"/>
              <a:gd name="textAreaRight" fmla="*/ 2813040 w 3295440"/>
              <a:gd name="textAreaTop" fmla="*/ 170640 h 1554120"/>
              <a:gd name="textAreaBottom" fmla="*/ 995400 h 1554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阴阴冷冷、天气凉爽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ubOvalCallout"/>
          <p:cNvSpPr/>
          <p:nvPr/>
        </p:nvSpPr>
        <p:spPr>
          <a:xfrm>
            <a:off x="-112680" y="-189000"/>
            <a:ext cx="4265640" cy="1827360"/>
          </a:xfrm>
          <a:custGeom>
            <a:avLst/>
            <a:gdLst>
              <a:gd name="textAreaLeft" fmla="*/ 624600 w 4265640"/>
              <a:gd name="textAreaRight" fmla="*/ 3641040 w 4265640"/>
              <a:gd name="textAreaTop" fmla="*/ 200520 h 1827360"/>
              <a:gd name="textAreaBottom" fmla="*/ 1170720 h 1827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把手伸到热水里去。意思是天气很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91440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东游，见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小儿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我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始出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去人近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也。”一儿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初出远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大如车盖，及日中，则如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盘盂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小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沧沧凉凉，及其日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如探汤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不能决也。两小儿笑曰：“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为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32000" y="260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两 小 儿 辩 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4" name="chimes.wav"/>
      </p:stSnd>
    </p:sndAc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10965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101680" cy="34290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85840" cy="3433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3399"/>
                </a:solidFill>
                <a:latin typeface="Times New Roman"/>
              </a:rPr>
              <a:t>思考题：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两小儿到底辩论太阳的什么？（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大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凉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离人的远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2819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40a89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762120" y="1295280"/>
            <a:ext cx="6629400" cy="1486080"/>
            <a:chOff x="762120" y="1295280"/>
            <a:chExt cx="6629400" cy="1486080"/>
          </a:xfrm>
        </p:grpSpPr>
        <p:sp>
          <p:nvSpPr>
            <p:cNvPr id="655" name=""/>
            <p:cNvSpPr/>
            <p:nvPr/>
          </p:nvSpPr>
          <p:spPr>
            <a:xfrm>
              <a:off x="1219320" y="1295280"/>
              <a:ext cx="6172200" cy="1486080"/>
            </a:xfrm>
            <a:prstGeom prst="rect">
              <a:avLst/>
            </a:prstGeom>
            <a:gradFill rotWithShape="0">
              <a:gsLst>
                <a:gs pos="0">
                  <a:srgbClr val="29e9fd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大如车盖，及日中，则如盘盂，此不为远者小而近者大乎？ ”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小    近者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762120" y="1676160"/>
              <a:ext cx="5716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914400" y="3809880"/>
            <a:ext cx="7010280" cy="1486080"/>
            <a:chOff x="914400" y="3809880"/>
            <a:chExt cx="7010280" cy="1486080"/>
          </a:xfrm>
        </p:grpSpPr>
        <p:sp>
          <p:nvSpPr>
            <p:cNvPr id="658" name=""/>
            <p:cNvSpPr/>
            <p:nvPr/>
          </p:nvSpPr>
          <p:spPr>
            <a:xfrm>
              <a:off x="1371600" y="3809880"/>
              <a:ext cx="6553080" cy="148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</a:t>
              </a:r>
              <a:r>
                <a:rPr b="0" lang="zh-CN" sz="2800" spc="-1" strike="noStrike">
                  <a:solidFill>
                    <a:srgbClr val="7d7a0b"/>
                  </a:solidFill>
                  <a:latin typeface="Arial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沧沧凉凉，及其日中如探汤，此不为近者热而远者凉乎？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凉    近者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3"/>
            <a:stretch/>
          </p:blipFill>
          <p:spPr>
            <a:xfrm>
              <a:off x="914400" y="426708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6095880" y="0"/>
            <a:ext cx="2438280" cy="1143000"/>
            <a:chOff x="6095880" y="0"/>
            <a:chExt cx="2438280" cy="1143000"/>
          </a:xfrm>
        </p:grpSpPr>
        <p:sp>
          <p:nvSpPr>
            <p:cNvPr id="661" name=""/>
            <p:cNvSpPr/>
            <p:nvPr/>
          </p:nvSpPr>
          <p:spPr>
            <a:xfrm>
              <a:off x="6095880" y="0"/>
              <a:ext cx="2438280" cy="1143000"/>
            </a:xfrm>
            <a:prstGeom prst="cloudCallout">
              <a:avLst>
                <a:gd name="adj1" fmla="val 29689"/>
                <a:gd name="adj2" fmla="val 141666"/>
              </a:avLst>
            </a:prstGeom>
            <a:gradFill rotWithShape="0">
              <a:gsLst>
                <a:gs pos="0">
                  <a:srgbClr val="6cda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可以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7696080" y="5335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"/>
          <p:cNvSpPr txBox="1"/>
          <p:nvPr/>
        </p:nvSpPr>
        <p:spPr>
          <a:xfrm>
            <a:off x="3048120" y="2286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234b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细黑"/>
              </a:rPr>
              <a:t>两种理由</a:t>
            </a:r>
            <a:endParaRPr b="1" lang="en-US" sz="1800" spc="-1" strike="noStrike">
              <a:ln w="0">
                <a:noFill/>
              </a:ln>
              <a:solidFill>
                <a:srgbClr val="f234b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>
    <p:dissolve/>
    <p:sndAc>
      <p:stSnd>
        <p:snd r:embed="rId5" name="whoo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2629080" y="0"/>
            <a:ext cx="6553080" cy="6865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 rot="5400000">
            <a:off x="157680" y="2947320"/>
            <a:ext cx="3024000" cy="1250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我会写       我会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两小儿笑曰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“孰为汝多知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孔子曰：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……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-92160" y="46080"/>
            <a:ext cx="9345600" cy="73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69" name=""/>
          <p:cNvSpPr/>
          <p:nvPr/>
        </p:nvSpPr>
        <p:spPr>
          <a:xfrm>
            <a:off x="1836720" y="2276640"/>
            <a:ext cx="2743200" cy="914400"/>
          </a:xfrm>
          <a:prstGeom prst="rightArrowCallout">
            <a:avLst>
              <a:gd name="adj1" fmla="val 25002"/>
              <a:gd name="adj2" fmla="val 25000"/>
              <a:gd name="adj3" fmla="val 5000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95480" y="304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会写   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3809880"/>
            <a:ext cx="1447920" cy="2590920"/>
          </a:xfrm>
          <a:prstGeom prst="leftArrowCallout">
            <a:avLst>
              <a:gd name="adj1" fmla="val 44739"/>
              <a:gd name="adj2" fmla="val 44735"/>
              <a:gd name="adj3" fmla="val 16667"/>
              <a:gd name="adj4" fmla="val 6667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00560" y="3886200"/>
            <a:ext cx="1033560" cy="2514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孰为汝多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乎？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67080" y="91440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674" name="PubOvalCallout"/>
          <p:cNvSpPr/>
          <p:nvPr/>
        </p:nvSpPr>
        <p:spPr>
          <a:xfrm>
            <a:off x="2362320" y="0"/>
            <a:ext cx="3867120" cy="1886040"/>
          </a:xfrm>
          <a:custGeom>
            <a:avLst/>
            <a:gdLst>
              <a:gd name="textAreaLeft" fmla="*/ 566280 w 3867120"/>
              <a:gd name="textAreaRight" fmla="*/ 3300840 w 3867120"/>
              <a:gd name="textAreaTop" fmla="*/ 207000 h 1886040"/>
              <a:gd name="textAreaBottom" fmla="*/ 1208160 h 18860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知之为知之，不知为不知，是知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 rot="5400000">
            <a:off x="1599480" y="411480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34120" y="228600"/>
            <a:ext cx="2133360" cy="129528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出的道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2133720"/>
            <a:ext cx="6019560" cy="7855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孔子“知之为知之、不知为不知，是知也。”实事求是的治学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3809880"/>
            <a:ext cx="6248520" cy="785520"/>
          </a:xfrm>
          <a:prstGeom prst="rect">
            <a:avLst/>
          </a:prstGeom>
          <a:gradFill rotWithShape="0">
            <a:gsLst>
              <a:gs pos="0">
                <a:srgbClr val="22cac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两小儿善于从日常的自然事物中发现问题，独立思考，大胆质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23880" y="5638680"/>
            <a:ext cx="609624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海无涯，即使最有学问的人也有难解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762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176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  业  超 市</a:t>
            </a:r>
            <a:endParaRPr b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文言文                 开拓视野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选择孔子的名言         自我积累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资料                     解答疑问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改编课本剧                 陶冶情操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66560" y="685800"/>
            <a:ext cx="83725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ransition>
    <p:wedg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4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950760" y="-2322360"/>
            <a:ext cx="10780560" cy="91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-141120" y="-2365200"/>
            <a:ext cx="10437480" cy="10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ff66"/>
                </a:solidFill>
                <a:latin typeface="Arial"/>
                <a:ea typeface="幼圆"/>
              </a:rPr>
              <a:t>文言故事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永中粗黑"/>
              </a:rPr>
              <a:t>文言故事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导  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王 老 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演  员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: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寺湾镇中八二班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寺 湾 镇 中 心 学 校 电 视 剧 制 作 中 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58920" y="1341360"/>
            <a:ext cx="611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newsflash/>
    <p:sndAc>
      <p:stSnd>
        <p:snd r:embed="rId2" name="explod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91440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东游，见两小儿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我以日始出时去人近，而日中时远也。”一儿以日初出远，而日中时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大如车盖，及日中，则如盘盂，此不为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沧沧凉凉，及其日中如探汤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不能决也。两小儿笑曰：“孰为汝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5493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56000" y="477720"/>
            <a:ext cx="381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两小儿辩日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pic>
        <p:nvPicPr>
          <p:cNvPr id="5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-19080"/>
            <a:ext cx="87854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9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温   馨   提   示</a:t>
            </a:r>
            <a:endParaRPr b="1" lang="en-US" sz="5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时间：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五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分 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工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结合注释理解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联系上下文读通句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主探究    小组合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做好分工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24360" y="508644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508644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渔  歌  问  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对阵双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男生         女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规       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读句子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说句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057400"/>
            <a:ext cx="1981080" cy="4024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认为对方读的不够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权不对这句话作出解释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105520" y="1981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《列子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·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汤问》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990720" y="1600200"/>
            <a:ext cx="8001000" cy="4950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6095880" y="49528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19720" y="4038480"/>
            <a:ext cx="1143000" cy="990720"/>
          </a:xfrm>
          <a:prstGeom prst="wedgeEllipseCallout">
            <a:avLst>
              <a:gd name="adj1" fmla="val -20555"/>
              <a:gd name="adj2" fmla="val 57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早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太阳离离人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400800" y="3505320"/>
            <a:ext cx="914400" cy="1067400"/>
            <a:chOff x="6400800" y="3505320"/>
            <a:chExt cx="914400" cy="1067400"/>
          </a:xfrm>
        </p:grpSpPr>
        <p:sp>
          <p:nvSpPr>
            <p:cNvPr id="587" name=""/>
            <p:cNvSpPr/>
            <p:nvPr/>
          </p:nvSpPr>
          <p:spPr>
            <a:xfrm>
              <a:off x="6400800" y="3505320"/>
              <a:ext cx="914400" cy="1067400"/>
            </a:xfrm>
            <a:prstGeom prst="cloudCallout">
              <a:avLst>
                <a:gd name="adj1" fmla="val 5504"/>
                <a:gd name="adj2" fmla="val 1018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65960" y="3505320"/>
              <a:ext cx="71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早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太阳离人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3276720" y="3124080"/>
            <a:ext cx="533160" cy="457200"/>
          </a:xfrm>
          <a:prstGeom prst="ellipse">
            <a:avLst/>
          </a:prstGeom>
          <a:gradFill rotWithShape="0">
            <a:gsLst>
              <a:gs pos="0">
                <a:srgbClr val="fbf4e7"/>
              </a:gs>
              <a:gs pos="100000">
                <a:srgbClr val="fdfa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1828800"/>
            <a:ext cx="769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儿曰：“我                       时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近，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远也。”一儿以日初出远，而日中时近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81280" y="1752480"/>
            <a:ext cx="582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22640" y="1755720"/>
            <a:ext cx="169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日始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27760" y="1736640"/>
            <a:ext cx="762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2819520"/>
            <a:ext cx="1708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日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ubOvalCallout"/>
          <p:cNvSpPr/>
          <p:nvPr/>
        </p:nvSpPr>
        <p:spPr>
          <a:xfrm>
            <a:off x="3290760" y="322200"/>
            <a:ext cx="1086120" cy="1600200"/>
          </a:xfrm>
          <a:custGeom>
            <a:avLst/>
            <a:gdLst>
              <a:gd name="textAreaLeft" fmla="*/ 158760 w 1086120"/>
              <a:gd name="textAreaRight" fmla="*/ 927360 w 108612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ubOvalCallout"/>
          <p:cNvSpPr/>
          <p:nvPr/>
        </p:nvSpPr>
        <p:spPr>
          <a:xfrm>
            <a:off x="4317840" y="28404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60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太阳刚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ubOvalCallout"/>
          <p:cNvSpPr/>
          <p:nvPr/>
        </p:nvSpPr>
        <p:spPr>
          <a:xfrm>
            <a:off x="6186600" y="533520"/>
            <a:ext cx="933480" cy="137160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0480 h 1371600"/>
              <a:gd name="textAreaBottom" fmla="*/ 878760 h 1371600"/>
            </a:gdLst>
            <a:ahLst/>
            <a:rect l="textAreaLeft" t="textAreaTop" r="textAreaRight" b="textAreaBottom"/>
            <a:pathLst>
              <a:path w="21600" h="21600">
                <a:moveTo>
                  <a:pt x="1947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ubOvalCallout"/>
          <p:cNvSpPr/>
          <p:nvPr/>
        </p:nvSpPr>
        <p:spPr>
          <a:xfrm>
            <a:off x="108000" y="765000"/>
            <a:ext cx="1238040" cy="2190960"/>
          </a:xfrm>
          <a:custGeom>
            <a:avLst/>
            <a:gdLst>
              <a:gd name="textAreaLeft" fmla="*/ 181080 w 1238040"/>
              <a:gd name="textAreaRight" fmla="*/ 1056960 w 1238040"/>
              <a:gd name="textAreaTop" fmla="*/ 240840 h 2190960"/>
              <a:gd name="textAreaBottom" fmla="*/ 1403640 h 2190960"/>
            </a:gdLst>
            <a:ahLst/>
            <a:rect l="textAreaLeft" t="textAreaTop" r="textAreaRight" b="textAreaBottom"/>
            <a:pathLst>
              <a:path w="21600" h="21600">
                <a:moveTo>
                  <a:pt x="105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中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4343400" y="5029200"/>
            <a:ext cx="121932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0" y="3594240"/>
              <a:ext cx="91440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rcRect l="0" t="0" r="0" b="43255"/>
            <a:stretch/>
          </p:blipFill>
          <p:spPr>
            <a:xfrm>
              <a:off x="0" y="0"/>
              <a:ext cx="9144000" cy="389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 txBox="1"/>
          <p:nvPr/>
        </p:nvSpPr>
        <p:spPr>
          <a:xfrm rot="5400000">
            <a:off x="-1237320" y="1618200"/>
            <a:ext cx="3465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8100000" blurRad="0" rotWithShape="0">
                    <a:srgbClr val="000080"/>
                  </a:outerShdw>
                </a:effectLst>
                <a:latin typeface="宋体"/>
              </a:rPr>
              <a:t>初升的太阳</a:t>
            </a:r>
            <a:endParaRPr b="1" lang="en-US" sz="1800" spc="-1" strike="noStrike">
              <a:ln w="0">
                <a:noFill/>
              </a:ln>
              <a:solidFill>
                <a:srgbClr val="ff9900"/>
              </a:solidFill>
              <a:effectLst>
                <a:outerShdw dist="107932" dir="8100000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3886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3962520"/>
            <a:ext cx="822960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儿曰：“日初出大如车盖，    日中，                如盘盂，    不    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81680" y="3962520"/>
            <a:ext cx="689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4419720"/>
            <a:ext cx="960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4419720"/>
            <a:ext cx="8636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4419720"/>
            <a:ext cx="9032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ubRRectCallout"/>
          <p:cNvSpPr/>
          <p:nvPr/>
        </p:nvSpPr>
        <p:spPr>
          <a:xfrm>
            <a:off x="6553080" y="3200400"/>
            <a:ext cx="1219320" cy="795240"/>
          </a:xfrm>
          <a:custGeom>
            <a:avLst/>
            <a:gdLst>
              <a:gd name="textAreaLeft" fmla="*/ 7920 w 1219320"/>
              <a:gd name="textAreaRight" fmla="*/ 1208880 w 121932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ubRRectCallout"/>
          <p:cNvSpPr/>
          <p:nvPr/>
        </p:nvSpPr>
        <p:spPr>
          <a:xfrm>
            <a:off x="457200" y="3733920"/>
            <a:ext cx="760320" cy="809640"/>
          </a:xfrm>
          <a:custGeom>
            <a:avLst/>
            <a:gdLst>
              <a:gd name="textAreaLeft" fmla="*/ 5040 w 760320"/>
              <a:gd name="textAreaRight" fmla="*/ 753840 w 760320"/>
              <a:gd name="textAreaTop" fmla="*/ 5400 h 809640"/>
              <a:gd name="textAreaBottom" fmla="*/ 641160 h 80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19843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ubTriangle"/>
          <p:cNvSpPr/>
          <p:nvPr/>
        </p:nvSpPr>
        <p:spPr>
          <a:xfrm>
            <a:off x="2209680" y="4876920"/>
            <a:ext cx="1486080" cy="152064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ubTriangle"/>
          <p:cNvSpPr/>
          <p:nvPr/>
        </p:nvSpPr>
        <p:spPr>
          <a:xfrm>
            <a:off x="3657600" y="4952880"/>
            <a:ext cx="1390680" cy="13525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533520" y="5029200"/>
            <a:ext cx="1600200" cy="1447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3352680"/>
            <a:ext cx="12956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1981080"/>
            <a:ext cx="99072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20120" y="457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66880" y="3124080"/>
            <a:ext cx="175284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1523880"/>
            <a:ext cx="144756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5715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581280" y="54100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日初出大如车盖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3" name=""/>
          <p:cNvSpPr/>
          <p:nvPr/>
        </p:nvSpPr>
        <p:spPr>
          <a:xfrm>
            <a:off x="6553080" y="76212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28600" y="533520"/>
            <a:ext cx="6095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及日中，则如盘盂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8080" y="2362320"/>
            <a:ext cx="769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ff"/>
                </a:solidFill>
                <a:latin typeface="楷体_GB2312"/>
              </a:rPr>
              <a:t>此不为远者小而近者大乎？</a:t>
            </a:r>
            <a:endParaRPr b="0" lang="en-US" sz="1800" spc="-1" strike="noStrike">
              <a:ln w="0">
                <a:noFill/>
              </a:ln>
              <a:solidFill>
                <a:srgbClr val="3366ff"/>
              </a:solidFill>
              <a:latin typeface="楷体_GB2312"/>
              <a:ea typeface="楷体_GB2312"/>
            </a:endParaRPr>
          </a:p>
        </p:txBody>
      </p:sp>
      <p:sp>
        <p:nvSpPr>
          <p:cNvPr id="626" name=""/>
          <p:cNvSpPr/>
          <p:nvPr/>
        </p:nvSpPr>
        <p:spPr>
          <a:xfrm>
            <a:off x="8381880" y="6324480"/>
            <a:ext cx="381240" cy="30492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23:30Z</dcterms:created>
  <dc:creator>王栋梁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